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13E9-0E3E-40C9-860F-A2E18409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7DBE9D6-00DC-47A7-BBE7-40950A65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1FF8A76-5D40-4C55-A8CE-17E609932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1EF400A-4A73-43B8-8058-A1040DAC4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0EE-560C-48A4-973E-581452F4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980-21C8-4F5B-8B82-67AB3946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42A-2F55-473A-B523-657259E2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2CC-62BD-4B48-B002-59852DA8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85A-6079-44BC-AC69-E5328E20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6E3-BDC9-4D20-801C-965DFD5D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CB4-AEB3-4FF4-A314-C86F358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E6D-29CC-4C2C-8D5E-14471A0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99E-D60F-4330-BBFF-73741E3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64D-5D7F-492C-BA77-9F75B535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FB2-F2EB-4EFC-A56E-1929EB6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531-4F00-45CB-932B-FC1B07D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8CE-5BB5-405A-BA18-E509012B3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bbledegook"/>
              </a:rPr>
              <a:t>Welcome to Leaksville Spray Elementa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obbledegook"/>
              </a:rPr>
              <a:t>Technology La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obbledegook"/>
              </a:rPr>
              <a:t>Mrs. Williams, Instructo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105520" cy="39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ting and drinking are NOT allowed at your compu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 CANDY OR GUM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2514600"/>
            <a:ext cx="3885480" cy="3276000"/>
            <a:chOff x="685800" y="2514600"/>
            <a:chExt cx="3885480" cy="3276000"/>
          </a:xfrm>
        </p:grpSpPr>
        <p:grpSp>
          <p:nvGrpSpPr>
            <p:cNvPr id="72" name=""/>
            <p:cNvGrpSpPr/>
            <p:nvPr/>
          </p:nvGrpSpPr>
          <p:grpSpPr>
            <a:xfrm>
              <a:off x="685800" y="2514600"/>
              <a:ext cx="3885480" cy="3276000"/>
              <a:chOff x="685800" y="2514600"/>
              <a:chExt cx="3885480" cy="3276000"/>
            </a:xfrm>
          </p:grpSpPr>
          <p:pic>
            <p:nvPicPr>
              <p:cNvPr id="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3080" y="2514600"/>
                <a:ext cx="2914200" cy="320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85800" y="2514600"/>
                <a:ext cx="3885480" cy="3276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H="1">
              <a:off x="1333080" y="2766960"/>
              <a:ext cx="2374920" cy="251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181480" y="2133720"/>
            <a:ext cx="3428640" cy="3657240"/>
            <a:chOff x="5181480" y="2133720"/>
            <a:chExt cx="3428640" cy="36572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922360" y="2508480"/>
              <a:ext cx="1903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181480" y="2133720"/>
              <a:ext cx="3428640" cy="3657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830200" y="2414880"/>
              <a:ext cx="2038320" cy="290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lstar"/>
              </a:rPr>
              <a:t>In the Event of a Fire Drill and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Object 3" descr=""/>
          <p:cNvPicPr/>
          <p:nvPr/>
        </p:nvPicPr>
        <p:blipFill>
          <a:blip r:embed="rId1"/>
          <a:stretch/>
        </p:blipFill>
        <p:spPr>
          <a:xfrm>
            <a:off x="766800" y="1981080"/>
            <a:ext cx="364788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turn off the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 sure to push your chairs in when you are leav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ave quickly and carefully using the route your computer teacher has instructed you to u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No T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ember to be safe on th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n’t access non-school e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 DOWNLO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ing is a technology priority.  Keep your eyes on your screen and don’t bother people sitting around you.  They are trying to get their work don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46360" y="2286000"/>
            <a:ext cx="56512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mudge"/>
              </a:rPr>
              <a:t>Three Strikes (CPU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mudge"/>
              </a:rPr>
              <a:t>“Your r r r Out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5800" y="1523880"/>
            <a:ext cx="586728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First Time and Second time-w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Third Time- break away from computer.  Sig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mudge"/>
              </a:rPr>
              <a:t>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Fourth Time-non participation in classroom activities – Removed from computer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Fifth Office Refer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j0398251"/>
          <p:cNvPicPr/>
          <p:nvPr/>
        </p:nvPicPr>
        <p:blipFill>
          <a:blip r:embed="rId1"/>
          <a:stretch/>
        </p:blipFill>
        <p:spPr>
          <a:xfrm>
            <a:off x="6324480" y="1066680"/>
            <a:ext cx="2287800" cy="2440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19920" y="4038480"/>
            <a:ext cx="2476440" cy="2476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nap ITC"/>
              </a:rPr>
              <a:t>Restroom Brea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Your teacher should have given you time to use restroom before coming to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You will not be allowed to use the bathroom during dir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Raise your hand to get permission to 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8"/>
          <p:cNvSpPr/>
          <p:nvPr/>
        </p:nvSpPr>
        <p:spPr>
          <a:xfrm>
            <a:off x="6781680" y="990720"/>
            <a:ext cx="1905120" cy="1904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MCj01041860000[1]"/>
          <p:cNvPicPr/>
          <p:nvPr/>
        </p:nvPicPr>
        <p:blipFill>
          <a:blip r:embed="rId1"/>
          <a:stretch/>
        </p:blipFill>
        <p:spPr>
          <a:xfrm>
            <a:off x="7086600" y="1219320"/>
            <a:ext cx="127152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4120" y="3962520"/>
            <a:ext cx="340668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ways use your computer class time wisely.  Getting assignments/projects done on time will greatly effect your grad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72464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 RESPECTFUL, RESPONIBLE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Y TO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43280" y="2362320"/>
            <a:ext cx="525780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8680" y="457200"/>
            <a:ext cx="77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e to class ready to lear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292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9680"/>
            <a:ext cx="77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ome into the la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487680" cy="4114800"/>
          </a:xfrm>
          <a:prstGeom prst="rect">
            <a:avLst/>
          </a:prstGeom>
          <a:ln w="57240">
            <a:solidFill>
              <a:srgbClr val="000000"/>
            </a:solidFill>
            <a:round/>
          </a:ln>
        </p:spPr>
      </p:pic>
      <p:sp>
        <p:nvSpPr>
          <p:cNvPr id="54" name=""/>
          <p:cNvSpPr/>
          <p:nvPr/>
        </p:nvSpPr>
        <p:spPr>
          <a:xfrm>
            <a:off x="4876920" y="37339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Walk (don’t run) to your s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523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UIET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ent Orange"/>
              </a:rPr>
              <a:t>Do not ba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ent Orange"/>
              </a:rPr>
              <a:t>on keyboar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3276720" cy="3268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172200" y="1066680"/>
            <a:ext cx="1752480" cy="1752840"/>
          </a:xfrm>
          <a:prstGeom prst="cloudCallout">
            <a:avLst>
              <a:gd name="adj1" fmla="val -64129"/>
              <a:gd name="adj2" fmla="val 839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uch…That hur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533520"/>
            <a:ext cx="80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e the equipment prope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give care to all componen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eadphones, mouse, etc…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port problems immediat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3808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ke sure you close all windows, log out and push in your chair when you le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40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304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t ONLY with permis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Use only the computer you are assigned to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o not save to the hard drive (C:)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of your computer or Dropbox unless specified by teache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49480" y="2590920"/>
            <a:ext cx="504360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esktop picture, screensavers and other settings on your computer should be left al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46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8:54:26Z</dcterms:created>
  <dc:creator>Topeka Public Schools</dc:creator>
  <dc:description/>
  <dc:language>en-US</dc:language>
  <cp:lastModifiedBy> </cp:lastModifiedBy>
  <dcterms:modified xsi:type="dcterms:W3CDTF">2011-08-13T03:50:48Z</dcterms:modified>
  <cp:revision>16</cp:revision>
  <dc:subject/>
  <dc:title>PowerPoint Presentation</dc:title>
</cp:coreProperties>
</file>